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195-ABB1-42F3-9C32-49A867DE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B9D-8202-4569-A9CB-8B764BF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171-BD5F-4177-9348-96463308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A7C-DE68-4A53-B3C2-FC94283D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A22-6D17-4638-B77D-3D85BE24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D5C-880C-4C19-9478-F2F1EB88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706-AFC3-4DB8-9946-6FA29714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D2D-4B55-4F18-88BF-D88AD31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4B8-D410-46C0-8B72-839E49E2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BF9-6D06-4362-A25E-9C3BD27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10F-C1E8-410D-90AD-E0898DF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AFC-8EE9-4B8C-9D24-22EB72F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DAAE0-9A52-4356-8486-003A10585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343960" y="1797120"/>
            <a:ext cx="424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социальна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6000" spc="-1" strike="noStrike">
                <a:solidFill>
                  <a:srgbClr val="000000"/>
                </a:solidFill>
                <a:latin typeface="Times New Roman"/>
              </a:rPr>
              <a:t>педагоги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324000" y="1628640"/>
            <a:ext cx="82278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перио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социальной педагог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51120"/>
            <a:ext cx="822816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й (начальный)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период с древнейших времен до ХVII 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мысление практики воспитания и формирование педагогической и социально-педагогической мысли. Становление воспитания как социального явления, его преобразование из стихийного действия в осознанную деятельность. Возникновение различных теорий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-й период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(ХVII- XIXвв.)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витие ведущих идей и научных концепций социальной педагогики, становление ее как науки. ХVIII, XIX века вошли в историю мировой культуры как периоды буржуазно-демократических войн. Видные ученые (педагоги, философы, социологи, психологи) искали решение социально-педагогических проблем на путях сотрудничества с общественностью и государ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-й период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с начала ХХ ве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ериод развития социальной педагогики как самостоятельной науки. В России социальная педагогика, зародилась в конце ХIХ. В 1991 г. в России был официально введен институт социальной педагогики. Повсеместно в стране создаются центры социального здоровья семьи и детей, социальной реабилитации трудных подростков, работают телефоны доверия и многие другие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395280" y="453960"/>
            <a:ext cx="8424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оциализ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можно рассматривать к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азвитие и самоизменение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процессе усвоения и воспроизводства культу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что происходит во взаимодействии человека со стихийными, относительно направляемыми и целенаправленно создаваемыми условиями жиз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на всех возрастных этап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8360" y="1557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Arial"/>
              </a:rPr>
              <a:t>Сущность социализации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остоит в сочетании приспособл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и обособления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в условиях конкретного 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0800" y="484200"/>
            <a:ext cx="87015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Приспособление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социальная адаптация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цесс и результат встречной актив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бъекта и социа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даптация предполагает соглас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ебований и ожиданий социальной ср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 отношению к человеку с его уста­нов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социальным поведение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огласование самооценок и притязаний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 его возможностями и с реалиями социальной сре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аким образом, адаптация - это процесс и результ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новления индивида социальным суще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95280" y="1020240"/>
            <a:ext cx="799164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Обособлени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процесс автономизации челове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обществе. Результат этого процесса - потреб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человека иметь собственные взгляды и налич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аковых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ценностная автономия)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треб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иметь собственные привяза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эмоциональная автономия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требность самостоятельно решать лично 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касающиеся вопросы, способность противостоя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м жизненным ситуациям, которые меша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самоизменению, самоопределению, самореализации, самоутверждению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(поведенческая автономи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аким образом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бособление - это процесс и результат становления человеческой индивиду­а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71640" y="1484280"/>
            <a:ext cx="712944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обществе социализация имеет особенности в зависимости от среды, культуры, но есть и общие характери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116000" y="1197000"/>
            <a:ext cx="7416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любом обществе социализация человека имеет особенности на различных этапах. В самом общем виде этапы социализации можно соотнести с возрастной периодизацией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981000"/>
            <a:ext cx="770580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рмин «социальная педагогика» активно употребляется с начала ХХ в.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мотря на то, что само название было предложе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мецким педагог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идрихом Дистервег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ередине ХIХ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403280" y="1125360"/>
            <a:ext cx="56898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т различные периодизации, и приводимая ниже не является общепризнанной. Она весьма условна (особенно после этапа юности), но достаточно удобна с социально-педагогической точки з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332000" y="1700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Этапы социализации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40328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енчество (от рождения до 1 год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ее детство (1-3 год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ошкольное детство (3-6 лет)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ший школьный возраст (6-10 лет)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ладший подростковый (10-12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тарший подростковый (12-14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ий юношеский возраст(15-17 лет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юношеский (18-23 год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олодость (23-3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анняя зрелость (30-4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здняя зрелость (40-55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жилой возраст (55-65 лет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тарость (65-70 л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олгожительство (свыше 70 ле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332000" y="1052640"/>
            <a:ext cx="56880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циализации детей, подростков действуют условия, которые принято называть факто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206360" y="2182320"/>
            <a:ext cx="68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Факторы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116000" y="1484280"/>
            <a:ext cx="785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мегафакторы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мега - очень большой, всеобщий) – космос, планета, мир, которые в той или иной м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через другие группы факторов влия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на социализацию всех жителей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027080" y="1410120"/>
            <a:ext cx="748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акрофакторы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макро - большой) - стран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этнос, общество, государство, которые влия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на социализацию всех живущих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определенных стран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это влияние опосредствованно двумя друг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группами факторов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826920" y="1591920"/>
            <a:ext cx="756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езофакторы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мезо - средний, промежуточ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условия социализации больших групп люд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ыделяемых: по местности и типу посел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которых они живут (регион, село, город, поселок); по принадлежности к аудито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тех или иных сетей массовой коммуникации (радио, телевидения и др.); по принадлежности к тем или иным субкультур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39640" y="1193760"/>
            <a:ext cx="81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Микрофакторы эт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факторы, непосредств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лияющие на конкретных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людей, которые с ними взаимодей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семья и домашний очаг,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оседство, группы сверст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оспитательные организации, раз-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личные общественные, государственны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религиозные, частные организа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икросоциум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332000" y="1341360"/>
            <a:ext cx="662472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ейшую роль в том, каким вырастет человек, как пройдет его становление, играют люди, в непосредственном взаимодействии с которыми протекает его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311120" y="550800"/>
            <a:ext cx="6642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социальная педагогик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отрасль педагоги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исследующая социальное воспит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в контексте социализации,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т.е. воспитание всех возрастных групп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и социальных категорий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осуществляемое как в организац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специально для этого созданны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так и в организаци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для которых воспит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не является основной функ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(предприятия, воинские части и др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332000" y="1125360"/>
            <a:ext cx="63356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называют агентами социализации. Пока индивид в подростковом возрасте, агентами выступают родители, братья и сестры, родственники, сверстники, соседи,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251000" y="2033640"/>
            <a:ext cx="63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Средства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332000" y="620640"/>
            <a:ext cx="633564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изация человека осуществляется широким набором универсальных средств, содержание которых специфично для того или иного общества, того или иного социального слоя, того или иного возраста социализируем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60440" y="719280"/>
            <a:ext cx="81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пособы вскармливания младен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ухода за ним; формируемые быт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гигиенические умения; окруж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а продукты материальной куль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лементы духовной культуры (от колыб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есен и сказок до скульптур); стиль и содерж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бщения, а также методы поощрения и на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семье, в группах сверстников, в воспит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 иных социализирующих организац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оследовательное при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а к многочисленным видам и тип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тношений в основных сферах его жизнедея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049040" y="2060640"/>
            <a:ext cx="693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еханизмы социализаци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042920" y="1052640"/>
            <a:ext cx="655344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изация человека во взаимодействии с различными факторами и агентами происходит с помощью ряда, условно говоря, «механизм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692360" y="1268280"/>
            <a:ext cx="511164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ют различные подходы к рассмотрению «механизмов» социализ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116000" y="1700280"/>
            <a:ext cx="640872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, французский социальный психолог Г. Тард считал основным подраж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116000" y="620640"/>
            <a:ext cx="684072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ериканский ученый У. Бракфепбрепер механизмом социализации считает прогрессивную взаимную аккомодацию (приспособляемость) между активным растущим человеческим существом и изменяющимися условиями, в которых оно жи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087560" y="905040"/>
            <a:ext cx="72583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мпринтин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запечатление) - фикс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человеком на рецепторном и подсознате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уровнях особенностей воздействующих на 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жизненно важных объектов. Импринтин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оисходит преимущественно в младенчес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озрасте. Однако и на более поздних возрас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тапах возможно запечатление каких-либ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бразов, ощущений и т. п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813240" y="1255680"/>
            <a:ext cx="72334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1" i="1" lang="en-GB" sz="4000" spc="-1" strike="noStrike" u="sng">
                <a:solidFill>
                  <a:srgbClr val="ffffff"/>
                </a:solidFill>
                <a:uFillTx/>
                <a:latin typeface="Arial"/>
              </a:rPr>
              <a:t>бъектом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изучения социальной педагог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ребе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3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1863360"/>
            <a:ext cx="73598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Экзистенциальный нажим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владение языком и неосознаваемое усвоение норм социального поведения, обязательных в процессе взаимодействия со значимыми лиц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478160" y="1594080"/>
            <a:ext cx="63194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Подражание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ледование какому-либ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имеру, образцу. В данном случае – од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из путей произвольного и чаще вс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епроизвольного усвоения челове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социального опы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900000" y="175248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дентификация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отождествление)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процесс неосознаваемого отождествления человеком себя с другим человек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группой, образц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133848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Рефлексия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внутренний диалог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котором человек рассматрива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ценивает, принимает или отвергает те или иные ценности, свойственные различным институтам общества, семье, обществу сверстников, значимым лицам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71640" y="1410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Традиционный механизм социализации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стихийный) представляет собой усвоение человеком норм, эталонов поведения, взглядов, стереотипов, которые характерны для его семьи и ближайшего окружения (соседского, приятельского и др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547640" y="476280"/>
            <a:ext cx="56721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Институциональный механизм социализаци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нкционирует в процессе взаимодействия человека с институтами общества и различными организациями, как специально созданными для его социализации, так и еализующими социализирующие функции попутно, параллельно со своими основными функциями (производственные, общественные, клуб­ные и другие структуры, а также средства массовой коммуникации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39640" y="1052640"/>
            <a:ext cx="8228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социальное воспитание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1403280" y="1484280"/>
            <a:ext cx="54723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определения понятия «воспитание» многие исследователи выделяю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332000" y="1125360"/>
            <a:ext cx="590400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воспитание в широком социальном смысле, т. е. формирование человека под влиянием общества. Воспитание отождествляют с социализа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258920" y="981000"/>
            <a:ext cx="65530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воспитание в широком смысле, имея в виду целенаправленное воспитание, осуществляемое в учебно-воспитательных учрежден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42920" y="1413000"/>
            <a:ext cx="712944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Предметом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е исследования становятся закономерности социализации ребе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1258920" y="1052640"/>
            <a:ext cx="6337440" cy="24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воспитание в узком педагогическом смысле, а именно воспитательная работа, целью которой является формирование у детей системы определенных качеств, взглядов, убежд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195640" y="1052640"/>
            <a:ext cx="500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3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социальное воспитани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значает процесс, помогающий человеку совершенствовать себя, достигать успеха в определенной жизненной ситуации, ориентироваться в общественных отношениях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692360" y="1484280"/>
            <a:ext cx="604836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воспитание в еще более узком значении – решение конкретных воспитательных задач (например, воспитание определенного нравственного качества и т. 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706400" y="1676520"/>
            <a:ext cx="585324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Процесс социального воспитания происходит в семье, в школе, во всех звеньях образования, в тру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340000" y="1557360"/>
            <a:ext cx="43020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5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Основными очагами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социального воспитания ребенка (подростка) являются семья, школа, среда, «улица»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1258920" y="1197000"/>
            <a:ext cx="6626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4000"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Распространенной формой социального воспитания взрослых являются семейные клубы. Чаще их организовывают энтузиасты, увлеченные одним делом, спортом, искусством, идеей закаливания и т. д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411280" y="1916280"/>
            <a:ext cx="52563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педагогика – отрасль знания, которая дает ответы на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971640" y="1341360"/>
            <a:ext cx="7056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что произойдет или может произойти в жизни людей разных возрастов в тех или иных обстоятельств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042920" y="1557360"/>
            <a:ext cx="72741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ак можно создать благоприятные условия для успешной социализации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42920" y="1197000"/>
            <a:ext cx="705816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ак можно уменьшить эффект влияния неблагоприятных обстоятельств, которые случаются с человеком в процессе соци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ver</dc:creator>
  <dc:description/>
  <dc:language>en-US</dc:language>
  <cp:lastModifiedBy>Pavel</cp:lastModifiedBy>
  <dcterms:modified xsi:type="dcterms:W3CDTF">2017-10-05T11:18:35Z</dcterms:modified>
  <cp:revision>7</cp:revision>
  <dc:subject/>
  <dc:title>Слайд 1</dc:title>
</cp:coreProperties>
</file>